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914-2E6D-4BDF-8CEA-8BB1070E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274-8E0C-4338-AA9F-97094AE3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EAD-2BB4-43A6-AA38-352025AE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BD3-0B19-476B-8D98-7A7FF47A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0A7-7D8D-4921-9573-AA896725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7F7-CB73-46A0-8F15-6FF4290C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1C5-45FA-46A2-B536-0105AA47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7E6-4D29-4ECE-8CF0-EBB98294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D25-4BE1-483D-A43E-B9093A8F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AC8-A1CF-4685-913A-84D3114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253-ECBE-4A94-8024-64A5E6AF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9C3-0F6C-4447-BC28-08D626E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341B-F5FC-48A8-ADF6-E77656ABF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1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1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1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1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1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1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1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1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1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1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137808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1"/>
          <p:cNvSpPr/>
          <p:nvPr/>
        </p:nvSpPr>
        <p:spPr>
          <a:xfrm>
            <a:off x="1177920" y="15462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43000" y="236844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1177920" y="26733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43000" y="335916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177920" y="378144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143000" y="434988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2"/>
          <p:cNvSpPr/>
          <p:nvPr/>
        </p:nvSpPr>
        <p:spPr>
          <a:xfrm>
            <a:off x="1177920" y="47307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1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143000" y="534024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1177920" y="547380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27"/>
          <p:cNvSpPr txBox="1"/>
          <p:nvPr/>
        </p:nvSpPr>
        <p:spPr>
          <a:xfrm>
            <a:off x="2209680" y="730080"/>
            <a:ext cx="60865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elcome to My Portfoli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29"/>
          <p:cNvSpPr txBox="1"/>
          <p:nvPr/>
        </p:nvSpPr>
        <p:spPr>
          <a:xfrm>
            <a:off x="3733920" y="4886280"/>
            <a:ext cx="2600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Kevin Herm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y 200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3" name="Picture 32" descr="j0182829"/>
          <p:cNvPicPr/>
          <p:nvPr/>
        </p:nvPicPr>
        <p:blipFill>
          <a:blip r:embed="rId18"/>
          <a:stretch/>
        </p:blipFill>
        <p:spPr>
          <a:xfrm>
            <a:off x="3925800" y="116856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206280"/>
            <a:ext cx="487692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lang MT"/>
              </a:rPr>
              <a:t>All About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10880" y="1076400"/>
            <a:ext cx="3956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lang MT"/>
              </a:rPr>
              <a:t>Type some things about your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lang MT"/>
              </a:rPr>
              <a:t>Add a picture of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0" y="326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lang MT"/>
              </a:rPr>
              <a:t>Note to Vie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152388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lang MT"/>
              </a:rPr>
              <a:t>Tell your viewers what your purpose of your portfolio is. Point out some things about your entries that you think are spe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32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lang MT"/>
              </a:rPr>
              <a:t>Proje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ach of these is a link to another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46000" y="1854360"/>
            <a:ext cx="3359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ntry </a:t>
            </a:r>
            <a:r>
              <a:rPr b="0" lang="en-US" sz="1800" spc="-1" strike="noStrike">
                <a:solidFill>
                  <a:srgbClr val="000000"/>
                </a:solidFill>
                <a:latin typeface="Klang MT"/>
              </a:rPr>
              <a:t>(ref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ntry </a:t>
            </a:r>
            <a:r>
              <a:rPr b="0" lang="en-US" sz="1800" spc="-1" strike="noStrike">
                <a:solidFill>
                  <a:srgbClr val="000000"/>
                </a:solidFill>
                <a:latin typeface="Klang MT"/>
              </a:rPr>
              <a:t>(ref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ntry</a:t>
            </a:r>
            <a:r>
              <a:rPr b="0" lang="en-US" sz="1800" spc="-1" strike="noStrike">
                <a:solidFill>
                  <a:srgbClr val="000000"/>
                </a:solidFill>
                <a:latin typeface="Klang MT"/>
              </a:rPr>
              <a:t> (ref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85436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ntry </a:t>
            </a:r>
            <a:r>
              <a:rPr b="0" lang="en-US" sz="1800" spc="-1" strike="noStrike">
                <a:solidFill>
                  <a:srgbClr val="000000"/>
                </a:solidFill>
                <a:latin typeface="Klang MT"/>
              </a:rPr>
              <a:t>(ref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ntry</a:t>
            </a:r>
            <a:r>
              <a:rPr b="0" lang="en-US" sz="1800" spc="-1" strike="noStrike">
                <a:solidFill>
                  <a:srgbClr val="000000"/>
                </a:solidFill>
                <a:latin typeface="Klang MT"/>
              </a:rPr>
              <a:t> (ref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0920" y="326520"/>
            <a:ext cx="71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lang MT"/>
              </a:rPr>
              <a:t>Viewer Comment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Klang MT"/>
              </a:rPr>
              <a:t>For this slide, go to slide view to add com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2057400" y="20257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er, type your comment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057400" y="27828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er, type your comment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2057400" y="37018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er, type your comment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lang MT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0920" y="1720800"/>
            <a:ext cx="70866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lang MT"/>
              </a:rPr>
              <a:t>List two or three goals you have for yourself academ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69840" y="20257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lang MT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5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69840" y="313380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lang MT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6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69840" y="40831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lang MT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7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3"/>
          <p:cNvSpPr/>
          <p:nvPr/>
        </p:nvSpPr>
        <p:spPr>
          <a:xfrm>
            <a:off x="69840" y="4826160"/>
            <a:ext cx="17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lang MT"/>
              </a:rPr>
              <a:t>Vie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lang MT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05:58:20Z</dcterms:created>
  <dc:creator>New Century Classroom</dc:creator>
  <dc:description/>
  <dc:language>en-US</dc:language>
  <cp:lastModifiedBy>helen</cp:lastModifiedBy>
  <dcterms:modified xsi:type="dcterms:W3CDTF">2011-03-23T15:34:11Z</dcterms:modified>
  <cp:revision>10</cp:revision>
  <dc:subject/>
  <dc:title>PowerPoint Presentation</dc:title>
</cp:coreProperties>
</file>